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A5B-09F8-4D2B-8BEA-DC423523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AAF-7620-4638-B95E-105CDD87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71A-8D26-4C7A-B6AC-325C5389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9B9-8B4E-4333-9524-DB896336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DEAB-DA2F-4090-AF44-693DEC83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A53-712D-4735-A308-E0DC81D6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83F8-AC47-4DB2-B688-C293FA42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8E3-DA37-463C-83F7-66101A5C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0AE-0425-48ED-A9DA-4FADE85C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772-F04B-42D7-9EFC-0640D95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21E-52EE-49EE-9457-3AF547C8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490-900E-449C-B927-1152810F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7B49-1D2A-4E9E-AD64-DD2ECF931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pbf.org/images/Russia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2/Ural_mountains_448118784_97386d9aac_b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oscowtopnews.com/image/article/7/0/4/1704.jpe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,and Kevin D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about land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to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357600">
            <a:off x="4343400" y="5029200"/>
            <a:ext cx="343836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 rot="20551800">
            <a:off x="152280" y="228240"/>
            <a:ext cx="1676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4800600"/>
            <a:ext cx="419076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3:43:40Z</dcterms:created>
  <dc:creator> </dc:creator>
  <dc:description/>
  <dc:language>en-US</dc:language>
  <cp:lastModifiedBy> </cp:lastModifiedBy>
  <dcterms:modified xsi:type="dcterms:W3CDTF">2010-12-15T00:17:51Z</dcterms:modified>
  <cp:revision>2</cp:revision>
  <dc:subject/>
  <dc:title>LAND IN RUSSIA</dc:title>
</cp:coreProperties>
</file>